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A081B-2137-4E6A-9776-D62E38449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2649E-028C-4638-A7F2-4688C0DB7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160DA-1035-4A2C-8E70-ED15167B3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9A0C6-B6E1-4F67-9757-44A309200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1857A-6B2E-4AD8-A8CF-025DA3687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B5127-98CC-45CB-B361-35BCD0E1B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2DE73-2C40-482F-B54C-E24BBAF8A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DFF33-2F69-46B8-BB17-9D85968C8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4E4CA-8E4C-46DC-84B2-0CC81215F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EF353-B131-481D-B058-A00C80C02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61733-392E-475A-B356-F5CF135B4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A883B-95D2-4AA9-B861-AA67FEA27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23CE1-D353-4A91-BA47-937C2B24CC32}" type="slidenum">
              <a:rPr b="0" lang="en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One Life…Many gifts</a:t>
            </a:r>
            <a:br>
              <a:rPr sz="4400"/>
            </a:b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4.2 Transplantation Inform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179280" y="1762200"/>
            <a:ext cx="8785440" cy="483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Calibri"/>
              </a:rPr>
              <a:t>What is the biggest problem facing transplantation today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Their needs are not being met because of a lack of donated orga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More than 4,000 Canadians are waiting for an organ transplant, and thousands more need a tissue transpla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200 to 300 Canadians die each year because there are not enough donated orga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Calibri"/>
              </a:rPr>
              <a:t>What is the biggest problem facing transplantation today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Even if someone makes it on the list there is no guarantee that an organ will arrive in ti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Patients on kidney dialysis wait years at a time to get a transplant, if they get one at al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Patients waiting for a new heart have a 1 in 4 chance of dying while wa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Calibri"/>
              </a:rPr>
              <a:t>What is the biggest problem facing transplantation today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Some patients are also taken off the list because they are too ill to undergo the surger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Calibri"/>
              </a:rPr>
              <a:t>What are some solutions to the organ shortage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Living donors have become a source of organs in an attempt to address the ne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2" descr=""/>
          <p:cNvPicPr/>
          <p:nvPr/>
        </p:nvPicPr>
        <p:blipFill>
          <a:blip r:embed="rId1"/>
          <a:stretch/>
        </p:blipFill>
        <p:spPr>
          <a:xfrm>
            <a:off x="0" y="2708280"/>
            <a:ext cx="8893080" cy="41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Calibri"/>
              </a:rPr>
              <a:t>What are some solutions to the organ shortage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Calibri"/>
              </a:rPr>
              <a:t>Living Don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A person who donates 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or a portion of th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to someone in need, usually to a relative or a close friend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2" descr=""/>
          <p:cNvPicPr/>
          <p:nvPr/>
        </p:nvPicPr>
        <p:blipFill>
          <a:blip r:embed="rId1"/>
          <a:stretch/>
        </p:blipFill>
        <p:spPr>
          <a:xfrm>
            <a:off x="5580000" y="1214280"/>
            <a:ext cx="2336760" cy="18687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3" descr=""/>
          <p:cNvPicPr/>
          <p:nvPr/>
        </p:nvPicPr>
        <p:blipFill>
          <a:blip r:embed="rId2"/>
          <a:stretch/>
        </p:blipFill>
        <p:spPr>
          <a:xfrm>
            <a:off x="3895560" y="3213000"/>
            <a:ext cx="2552760" cy="20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Calibri"/>
              </a:rPr>
              <a:t>What are some solutions to the organ shortage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Almost every one has tw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and one can be donated  because  only one kidney is necessary to sustain life the life of an individua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1"/>
          <a:stretch/>
        </p:blipFill>
        <p:spPr>
          <a:xfrm>
            <a:off x="5580000" y="1214280"/>
            <a:ext cx="2336760" cy="14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Calibri"/>
              </a:rPr>
              <a:t>Number of Donors &amp; Patients Waiting For Transplants In Canad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Content Placeholder 3" descr=""/>
          <p:cNvPicPr/>
          <p:nvPr/>
        </p:nvPicPr>
        <p:blipFill>
          <a:blip r:embed="rId1"/>
          <a:stretch/>
        </p:blipFill>
        <p:spPr>
          <a:xfrm>
            <a:off x="0" y="1596960"/>
            <a:ext cx="9034560" cy="526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Calibri"/>
              </a:rPr>
              <a:t>Number of Organ Donors Per Million Popul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Content Placeholder 3" descr=""/>
          <p:cNvPicPr/>
          <p:nvPr/>
        </p:nvPicPr>
        <p:blipFill>
          <a:blip r:embed="rId1"/>
          <a:stretch/>
        </p:blipFill>
        <p:spPr>
          <a:xfrm>
            <a:off x="0" y="1603440"/>
            <a:ext cx="9144000" cy="525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Calibri"/>
              </a:rPr>
              <a:t>What research can help solve the shortage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There has been a great deal of work on identifying and growing stem cell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How the stem cells are regulated and controlled in the body is not yet know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1403280" y="4221000"/>
            <a:ext cx="6193080" cy="23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Calibri"/>
              </a:rPr>
              <a:t>What research can help solve the shortage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Researchers are looking at using </a:t>
            </a:r>
            <a:r>
              <a:rPr b="1" lang="en-CA" sz="3200" spc="-1" strike="noStrike">
                <a:solidFill>
                  <a:srgbClr val="000000"/>
                </a:solidFill>
                <a:latin typeface="Calibri"/>
              </a:rPr>
              <a:t>animal organs and tissue</a:t>
            </a: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 as one way to help solve the organ shortage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Focusing on the use of ______________ orga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5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Calibri"/>
              </a:rPr>
              <a:t>When were the first transplants done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324000" y="981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Efforts at organ transplantation began in the 1950’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People were dying from kidney failure, and the newly developed dialysis machines were not readily available nor effici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2195640" y="4221000"/>
            <a:ext cx="4752720" cy="24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684360" y="404640"/>
            <a:ext cx="7991280" cy="61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Calibri"/>
              </a:rPr>
              <a:t>What research can help solve the shortage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9528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The major challenge is overcoming the immunological barrier when transplants are performed between widely divergent speci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Researchers are also trying to create artificial organs.  (VAD) Ventricular Assist Dev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Calibri"/>
              </a:rPr>
              <a:t>When were the first transplants done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68360" y="126792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Dialys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A method of treating patients who have kidney failure to clean the blood and remove waste and excess water from the bod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There are two types of dialysis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Hemodialysi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Peritonia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Calibri"/>
              </a:rPr>
              <a:t>When were the first transplants done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 u="sng">
                <a:solidFill>
                  <a:srgbClr val="000000"/>
                </a:solidFill>
                <a:uFillTx/>
                <a:latin typeface="Calibri"/>
              </a:rPr>
              <a:t>Hemodialys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Done at the hospital three times a wee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Patients blood is passed through an artificial kidney machine (removing waste product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4500720" y="1268280"/>
            <a:ext cx="4152600" cy="53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000000"/>
                </a:solidFill>
                <a:latin typeface="Calibri"/>
              </a:rPr>
              <a:t>Hemodialy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108000" y="1628640"/>
            <a:ext cx="4392720" cy="49690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" descr=""/>
          <p:cNvPicPr/>
          <p:nvPr/>
        </p:nvPicPr>
        <p:blipFill>
          <a:blip r:embed="rId2"/>
          <a:stretch/>
        </p:blipFill>
        <p:spPr>
          <a:xfrm>
            <a:off x="4643280" y="1628640"/>
            <a:ext cx="410544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000000"/>
                </a:solidFill>
                <a:latin typeface="Calibri"/>
              </a:rPr>
              <a:t>Peritoneal Dialy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Fluid is exchanged in the abdominal cavity using a cathet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Usually done at home during the day or through the nigh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4211640" y="1125360"/>
            <a:ext cx="4932360" cy="532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000000"/>
                </a:solidFill>
                <a:latin typeface="Calibri"/>
              </a:rPr>
              <a:t>Peritoneal Dialy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4" descr=""/>
          <p:cNvPicPr/>
          <p:nvPr/>
        </p:nvPicPr>
        <p:blipFill>
          <a:blip r:embed="rId1"/>
          <a:stretch/>
        </p:blipFill>
        <p:spPr>
          <a:xfrm>
            <a:off x="0" y="1268280"/>
            <a:ext cx="9144000" cy="558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Calibri"/>
              </a:rPr>
              <a:t>What changed to make transplants successful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Everything changed in the late 1970’s when a new drug- cyclosporine- was discover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1692360" y="2708280"/>
            <a:ext cx="532764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Calibri"/>
              </a:rPr>
              <a:t>What is the biggest problem facing transplantation today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There has never been a worse time to be on the transplant waiting li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More people are waiting than ever before, they are waiting for a longer time, and their chances of dying while waiting have never been so hig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9T02:46:42Z</dcterms:created>
  <dc:creator>Jason</dc:creator>
  <dc:description/>
  <dc:language>en-US</dc:language>
  <cp:lastModifiedBy>Jason</cp:lastModifiedBy>
  <dcterms:modified xsi:type="dcterms:W3CDTF">2010-11-09T04:29:02Z</dcterms:modified>
  <cp:revision>9</cp:revision>
  <dc:subject/>
  <dc:title>One Life…Many gifts 5.2 Transplantation Information</dc:title>
</cp:coreProperties>
</file>